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27A8-4C42-42BC-900A-61A9A0AD1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031F-18AB-418C-B603-A587F9D10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0E33-9B63-452F-B546-89F488C30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B50A-8C67-4FC3-A30F-BB4BC70D0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7BB2-692B-4138-87DE-EC6BA4DBB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E621-772E-4599-BEBA-EA4C6F14D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88C8-7C6D-4F8F-A44C-25A01388F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3308-2A8C-4C17-AD18-10438EC22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3594-7597-4FA1-A857-2A5B27632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2887-4444-432F-8CFC-373B7D23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06B-3CC8-4FBE-9E47-7252EDF5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ACE-3474-46B5-A299-67545590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638-9E78-4518-8D54-62F4E10B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96C-4E97-4D0E-81EE-5E060EB5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D78-1DDA-42F5-88C0-506A66BC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A0DE-FF8F-450B-9C1A-50F03C12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EFDB-8E2F-479C-B91D-A578DBD1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562-EEDF-4608-A329-F0269A6C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747E-5FB0-4A0E-9E04-B343A5A1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0C6-DBCF-4CAC-A826-A358D2AF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D2F-4D73-49AD-8DE8-98760A8E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F91B-6D49-4599-84E2-186ABBEC5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PcnCWZP7l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Energy in the Water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ndentify types of energy and energy transformations associated with movement and/or change of mat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Straight Arrow Connector 5"/>
          <p:cNvCxnSpPr/>
          <p:nvPr/>
        </p:nvCxnSpPr>
        <p:spPr>
          <a:xfrm>
            <a:off x="1219320" y="2895120"/>
            <a:ext cx="915120" cy="305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3" name="TextBox 9"/>
          <p:cNvSpPr/>
          <p:nvPr/>
        </p:nvSpPr>
        <p:spPr>
          <a:xfrm>
            <a:off x="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ter Vapor in the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9" descr="Picture 1 08-31-43.png"/>
          <p:cNvPicPr/>
          <p:nvPr/>
        </p:nvPicPr>
        <p:blipFill>
          <a:blip r:embed="rId1"/>
          <a:stretch/>
        </p:blipFill>
        <p:spPr>
          <a:xfrm>
            <a:off x="2286000" y="2438280"/>
            <a:ext cx="6858000" cy="506124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70"/>
          <p:cNvGrpSpPr/>
          <p:nvPr/>
        </p:nvGrpSpPr>
        <p:grpSpPr>
          <a:xfrm>
            <a:off x="4952520" y="6400080"/>
            <a:ext cx="4191480" cy="456120"/>
            <a:chOff x="4952520" y="6400080"/>
            <a:chExt cx="4191480" cy="456120"/>
          </a:xfrm>
        </p:grpSpPr>
        <p:cxnSp>
          <p:nvCxnSpPr>
            <p:cNvPr id="76" name="Straight Arrow Connector 6"/>
            <p:cNvCxnSpPr/>
            <p:nvPr/>
          </p:nvCxnSpPr>
          <p:spPr>
            <a:xfrm flipH="1" flipV="1">
              <a:off x="4952520" y="6400080"/>
              <a:ext cx="838800" cy="229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77" name="TextBox 10"/>
            <p:cNvSpPr/>
            <p:nvPr/>
          </p:nvSpPr>
          <p:spPr>
            <a:xfrm>
              <a:off x="5790960" y="6487920"/>
              <a:ext cx="33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face Runo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7" descr="Picture 1 08-31-43.png"/>
          <p:cNvPicPr/>
          <p:nvPr/>
        </p:nvPicPr>
        <p:blipFill>
          <a:blip r:embed="rId1"/>
          <a:stretch/>
        </p:blipFill>
        <p:spPr>
          <a:xfrm>
            <a:off x="5334120" y="762120"/>
            <a:ext cx="4267080" cy="314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1219320"/>
          <a:ext cx="5105520" cy="1485720"/>
        </p:xfrm>
        <a:graphic>
          <a:graphicData uri="http://schemas.openxmlformats.org/drawingml/2006/table">
            <a:tbl>
              <a:tblPr/>
              <a:tblGrid>
                <a:gridCol w="1447920"/>
                <a:gridCol w="3657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Vapor in the Atmosp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 Water in Clo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 Water on the Su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 Water in a 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0" y="3733920"/>
          <a:ext cx="9144000" cy="2931840"/>
        </p:xfrm>
        <a:graphic>
          <a:graphicData uri="http://schemas.openxmlformats.org/drawingml/2006/table">
            <a:tbl>
              <a:tblPr/>
              <a:tblGrid>
                <a:gridCol w="1219320"/>
                <a:gridCol w="2971800"/>
                <a:gridCol w="1828800"/>
                <a:gridCol w="31240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pl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 Trans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 Trans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/Pum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po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/Pum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en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vitational potential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gravitational kine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p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vitational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gravitational kine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3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Gravitational energy, thermal energy, and/or chemical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 energy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2. A system is in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netic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a body has due to its m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he energy stored in a body due to its position or arrangement of its parts. Potential energy is converted into kinetic energy when matter moves or chemical energy when matter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vitation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that draws objects together.  On earth most gravitational energy is due to the attraction between the earth and other obj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of a body that results from the movement of molecules within the bod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that is due to the arrangement of atoms and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0" y="12254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average kinetic energy of molecules. This is also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Do molecules move faster in cold or warm 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Molecules move faster in warm air because they have mor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181480" y="6334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aviamet.gr/user_images/molecules1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molecules1.jpg"/>
          <p:cNvPicPr/>
          <p:nvPr/>
        </p:nvPicPr>
        <p:blipFill>
          <a:blip r:embed="rId1"/>
          <a:stretch/>
        </p:blipFill>
        <p:spPr>
          <a:xfrm>
            <a:off x="4419720" y="1523880"/>
            <a:ext cx="4572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Phase Chang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219320" y="6353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HeatCool.gif"/>
          <p:cNvPicPr/>
          <p:nvPr/>
        </p:nvPicPr>
        <p:blipFill>
          <a:blip r:embed="rId1"/>
          <a:stretch/>
        </p:blipFill>
        <p:spPr>
          <a:xfrm>
            <a:off x="1143000" y="1117440"/>
            <a:ext cx="67309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: Latent He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nt heat is the energy stored during a phase change.  This video demonstrates how the process of freezing releases he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youtube.com/watch?v=1PcnCWZP7l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6" name="Picture 6" descr="watercyclesummary.jpg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29" descr="Picture 1 08-31-43.png"/>
          <p:cNvPicPr/>
          <p:nvPr/>
        </p:nvPicPr>
        <p:blipFill>
          <a:blip r:embed="rId1"/>
          <a:stretch/>
        </p:blipFill>
        <p:spPr>
          <a:xfrm>
            <a:off x="1523880" y="2057400"/>
            <a:ext cx="685800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7:15:31Z</dcterms:created>
  <dc:creator>Julie Libarkin</dc:creator>
  <dc:description/>
  <dc:language>en-US</dc:language>
  <cp:lastModifiedBy>Duncan Sibley</cp:lastModifiedBy>
  <dcterms:modified xsi:type="dcterms:W3CDTF">2011-01-13T18:13:33Z</dcterms:modified>
  <cp:revision>306</cp:revision>
  <dc:subject/>
  <dc:title>PowerPoint Presentation</dc:title>
</cp:coreProperties>
</file>